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D69D-F1F7-4373-AE7D-EF320A70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9AE8-1F85-4FA7-A150-50844FFC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98BA-9564-4623-A241-2B29D9502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3068-C1F8-4B1A-9F9C-4A9C2574C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E7F8-B664-474E-A029-571E0299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C501-A185-4B1D-8D90-BAAB080F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A51C-4D0B-4397-97B7-273A235E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D69A-C274-400F-8A1C-9B1D7EB2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E3E5-3F1A-4BD0-8304-5A860A58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79A2-5B8D-4DEE-9722-FF67F42C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565C-877E-4829-AE40-D9B41A42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048E-37F6-44E9-86B1-CCE37BC1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180D-BD67-42FA-93F6-E1334580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C671-5D86-4B9D-8D4F-37A310F4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D2F1-2D2B-416B-A126-47CCC7A8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5592-72BF-43D8-A66C-8B981D51B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6995-B454-4C74-B0A3-10198FE7F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A416-32DD-481D-82F1-5F382BE9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2203-CCD1-4F0D-9E07-6AFB18EC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21EE-56AC-4E9F-AEDF-C5231B58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B05C-45D5-400D-9511-4946F49C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71B5-78D4-40A3-96E7-6404165A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8D14-01A5-4E5C-BC85-89CCDDE9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2448-2A7E-4594-8CA6-BBEA34F4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F5AB-E280-4162-8B0F-52B253E863B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7440-734A-40F8-A359-43D34C24B54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am 7: 7h3 31337 h4x0r5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6840" y="38862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onathan Che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Mike Headl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niel Che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Kyle Willstat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e A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057400" y="1752480"/>
            <a:ext cx="51814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ultiplexe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3962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hif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438280" y="1752480"/>
            <a:ext cx="4114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asic Functions: X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0" t="77197" r="0" b="0"/>
          <a:stretch/>
        </p:blipFill>
        <p:spPr>
          <a:xfrm>
            <a:off x="838080" y="2057400"/>
            <a:ext cx="77724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er: Try 1           Successful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ipple Carry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lay: 10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 rot="5400000">
            <a:off x="1936080" y="349560"/>
            <a:ext cx="5271840" cy="746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er: Try 2       Successful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arry Select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lay: 7.4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4582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er: Try 3       Failed (10 hrs later) Kogge-Stone        Thr. Delay: 2.4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4410360" cy="4224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819680" y="2590920"/>
            <a:ext cx="4324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etric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   We Win! Most Points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transistors sized for equivalent R to characteristic invert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ze=16952u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lay=tc-q+thold+tALU=~11.5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wer=122.3m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tal Metric=274,184,61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ay too much time spent on add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est case adder ALU delay ~5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re power, more area, much less ti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9T12:34:56Z</dcterms:created>
  <dc:creator>ITC Labs and Classrooms</dc:creator>
  <dc:description/>
  <dc:language>en-US</dc:language>
  <cp:lastModifiedBy>ITC Labs and Classrooms</cp:lastModifiedBy>
  <dcterms:modified xsi:type="dcterms:W3CDTF">2008-04-29T14:45:53Z</dcterms:modified>
  <cp:revision>4</cp:revision>
  <dc:subject/>
  <dc:title>Team 7: 7h3 31337 h4x0r5 </dc:title>
</cp:coreProperties>
</file>